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493-8637-4173-9F6C-DA288E4A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80F-6B47-4F54-9D45-F5AF7F8C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1344-A952-41C8-9C59-3591C631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9BD-D84A-40D1-BCED-2A8DFE51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9582-2FF4-40A5-ABAF-FCBAEF0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0FA-9F12-4D7C-B019-78A29EA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54A-26F6-4A14-8687-9B6722FD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697-0B59-4037-8E51-355EF07E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2FA-5BD7-46E0-8BF9-B3C9C26C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00D-C535-4F3D-9D23-B95C4D7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AE9-1B1D-4B17-A527-FA139B1F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DC4-0518-4403-9AA9-AB5BB1D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EDBF8-4536-41F2-8412-4845955428DD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Toiminnalliset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233000"/>
            <a:ext cx="9070920" cy="5456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Näö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Motoriika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Kuulo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Kognitiivisen toiminnan rajoitt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- Kaikki edellä mainitut liittyvät myös ikääntymiseen: Suuri käyttäjäryhmä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944360"/>
            <a:ext cx="9070920" cy="714852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Kognitiiviset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ikki käyttävät: Myös dementikot, kehitysvammaiset, lapset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täjät eivät ole tyhmiä tai vääränlaisia. Kehittäjät voivat oll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Lopuks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4360" y="-179280"/>
            <a:ext cx="9070920" cy="92520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lä tee itsellesi: tee käyttäjäl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Älä tee keskivertokäyttäjälle: tee rajoitteista kärsivälle käyttäjälle. 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Älä tee sellaista minkä käyttäjä voi oppia. Tee sellaista minkä käyttäjä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haluaa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opp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Lopuks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4360" y="158400"/>
            <a:ext cx="9070920" cy="857412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Tekemällä rajoitteista kärsivälle, teet myös tavanomaiselle käyttäjälle miellyttävän käyttöliittymä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Muista käyttäjän mentaaliset mallit. Ne voivat olla erilaiset kuin omas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287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Tehtävä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44280"/>
            <a:ext cx="9070920" cy="8055000"/>
          </a:xfrm>
          <a:prstGeom prst="rect">
            <a:avLst/>
          </a:prstGeom>
          <a:noFill/>
          <a:ln w="0">
            <a:noFill/>
          </a:ln>
        </p:spPr>
        <p:txBody>
          <a:bodyPr lIns="0" rIns="0" tIns="356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Tutki html-dokumentti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1: Käytä ilman hiirtä: toimiiko kaik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2: Käytä ilman kuvia: häviääkö tiet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3: Katso mustavalkeana: onko teksti luettava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4: Tutustu käyttöjärjestelmän helppokäyttöasetuksiin. Kytke ruudunlukija päälle, sammuta monitori ja käytä sivu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Näön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2920" y="1563480"/>
            <a:ext cx="9070920" cy="53989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Heikko näkökyky eri muodoiss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Heikko näkö, putkinäkö, häikäistyminen, hämäräsokeus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4400" spc="-1" strike="noStrike">
                <a:solidFill>
                  <a:srgbClr val="cc0066"/>
                </a:solidFill>
                <a:latin typeface="Arial"/>
              </a:rPr>
              <a:t>Värinäön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ongelmat esimerkiks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Periaate: eri aistit korvaavat toisi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808080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Näön rajoittee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2920" y="1447560"/>
            <a:ext cx="9070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Heikko näkökyky eri muodoiss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(Heikko näkö, putkinäkö, häikäistyminen, hämäräsokeus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fi-FI" sz="4400" spc="-1" strike="noStrike">
                <a:solidFill>
                  <a:srgbClr val="808080"/>
                </a:solidFill>
                <a:latin typeface="Arial"/>
              </a:rPr>
              <a:t>Värinäön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ongelmat esimerkiks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400" spc="-1" strike="noStrike">
                <a:solidFill>
                  <a:srgbClr val="000000"/>
                </a:solidFill>
                <a:latin typeface="Arial"/>
              </a:rPr>
              <a:t>Periaate: eri aistit korvaavat toisi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-294120"/>
            <a:ext cx="9070920" cy="85107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Heikko näkökyky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Tarkista käyttöliittymän skaalautumin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Ei tavoitella ulkonäön täydellisyyttä, vaan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tiedon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täydellisyyttä ja </a:t>
            </a:r>
            <a:r>
              <a:rPr b="0" i="1" lang="fi-FI" sz="4000" spc="-1" strike="noStrike">
                <a:solidFill>
                  <a:srgbClr val="000000"/>
                </a:solidFill>
                <a:latin typeface="Arial"/>
              </a:rPr>
              <a:t>käytettävyyden</a:t>
            </a: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 säilymistä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4800" spc="-1" strike="noStrike">
                <a:solidFill>
                  <a:srgbClr val="000000"/>
                </a:solidFill>
                <a:latin typeface="Arial"/>
              </a:rPr>
              <a:t>Periaate heikkonäköisiä varten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023840"/>
            <a:ext cx="9070920" cy="732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Kaikki </a:t>
            </a: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informaatio on esitettävä myös tekstin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 Myös videot ja audiotallenteet on esitettävä vaihtoehtoisesti tekstinä, kuvat alt-teksteill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-Käyttöliittymä ei saa edellyttää esimerkiksi animaation näkemistä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600" spc="-1" strike="noStrike">
                <a:solidFill>
                  <a:srgbClr val="000000"/>
                </a:solidFill>
                <a:latin typeface="Arial"/>
              </a:rPr>
              <a:t>Katso ilman kuvia: häviääkö tieto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Perustarkistuks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4360" y="576000"/>
            <a:ext cx="9070920" cy="82818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Html: Alt-määreet ovat tärkeitä myös ruudunlukuohjelmille ja hakukoneil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uvat jotka ovat vain turhia koristeita on varustettava tyhjillä alt-määreillä ruudunlukijaa varte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1640" y="301680"/>
            <a:ext cx="1944720" cy="1388880"/>
          </a:xfrm>
          <a:prstGeom prst="rect">
            <a:avLst/>
          </a:prstGeom>
          <a:solidFill>
            <a:srgbClr val="729fc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Photo of blind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using screen read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1640" y="5184720"/>
            <a:ext cx="3024000" cy="144000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(Im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7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5400" spc="-1" strike="noStrike">
                <a:solidFill>
                  <a:srgbClr val="000000"/>
                </a:solidFill>
                <a:latin typeface="Arial"/>
              </a:rPr>
              <a:t>Perustarkistuks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31640" y="-360720"/>
            <a:ext cx="9071280" cy="96440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Värisokeus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Eri muotoja, esimerkiksi puna-vihersokeus ja täydellinen värisoke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tso sivua tai käyttöliittymää mustavalkeana. Häviääkö tieto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Mielellään käyttäjätestaus ainakin puna-vihersokealla testaajall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0560" y="722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2066760"/>
            <a:ext cx="9070920" cy="664560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Motoriikan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ä ilman hiirtä: toimiiko kaik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ä hiirtä jalalla. Onnistuuk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html: tabi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729fc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0560" y="722160"/>
            <a:ext cx="9071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6600" spc="-1" strike="noStrike">
                <a:solidFill>
                  <a:srgbClr val="000000"/>
                </a:solidFill>
                <a:latin typeface="Arial"/>
              </a:rPr>
              <a:t>Perustarkistuksi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4360" y="2211120"/>
            <a:ext cx="9070920" cy="6645240"/>
          </a:xfrm>
          <a:prstGeom prst="rect">
            <a:avLst/>
          </a:prstGeom>
          <a:noFill/>
          <a:ln w="0">
            <a:noFill/>
          </a:ln>
        </p:spPr>
        <p:txBody>
          <a:bodyPr lIns="0" rIns="0" tIns="42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Kuulon rajoitteet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äyttöliittymä ei saa vaatia äänten kuulemista (puhelimeen vastaamine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Arial"/>
              </a:rPr>
              <a:t>- Kaikki audiolla esitetty tieto on esitettävä myös tekstinä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5:20:07Z</dcterms:created>
  <dc:creator/>
  <dc:description/>
  <dc:language>en-US</dc:language>
  <cp:lastModifiedBy/>
  <dcterms:modified xsi:type="dcterms:W3CDTF">2018-05-21T09:06:51Z</dcterms:modified>
  <cp:revision>7</cp:revision>
  <dc:subject/>
  <dc:title/>
</cp:coreProperties>
</file>